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FFEC-4BEF-430A-906F-7EE033940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2AC2-C8F7-49D0-8A05-E17B5D10F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E15B-646B-4B74-9DDD-EA4DE57C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EB52-19FC-4FD3-82E1-C38FB7B3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07A0-0997-445E-9B1E-8F38A984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80B1-E046-4A08-98AD-1AC319B2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BBDE-C799-4394-91D5-0F54819E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D145-3C5C-4955-8337-7B86CF32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00EA-576A-4C8B-86BE-A7FFDE28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D8AD-2F57-4AD3-B4E8-89EF2F2A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277-F749-4041-B8AF-51564D93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6ADD-B36F-4F30-90CE-1F84F95E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307F-698A-4FD6-8B18-23672F9F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4340-7E9D-432C-8EAA-58B64A97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AB90-5B67-40EE-BE37-C8E9A2D94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tephanie Fabri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Stephanie Fabriz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Stephanie Fabriz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Stephanie Fabri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Stephanie Fabriz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22860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22860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228600" y="5562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228600" y="4495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76320" y="53341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228600" y="3429000"/>
            <a:ext cx="16765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nombre es Stephani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Yo vivo en new york city. Yo tengo catorce años. Tengo 3 hermanos. Soy feliz. Adiós amigo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334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ttan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2485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rald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0880" y="53341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962520"/>
            <a:ext cx="54100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m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sotras estamos aburridas. Tu eres muy alta. Trabajamos mañana. Mucho gusto!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 horas ha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95480" y="3276720"/>
            <a:ext cx="53341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   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Mer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es! Estoy cansada! La escuela es difícil! ¿Donde estas tú mañana?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45 minutos hac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457200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Britta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Hola! Yo estoy muy ocupada! ¿Como están hermanos? ¿Enfermos? Mis perros son muy grand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                                        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Te gusta : Comentario:      23 minutos hac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895480" y="4572000"/>
            <a:ext cx="60199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!¿ Tu foto es nueva? MI papa trae yo a tu casa mañana! Tengo que preguntarle a mi m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1 horas ha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971800" y="5181480"/>
            <a:ext cx="472428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sm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uestras prueba es mañana! ¿Estas loca? Nuestra mente para dormir! No puedo ir ma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: 2 horas ha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971800" y="6019920"/>
            <a:ext cx="586728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erald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 noches! Nosotras tenemos que espera para la gemelas! ¿Cual casa? ¿Por que vamos? Chao! Hasta luego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: Comentario 3 horas hace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819520" y="190512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dias! Como estas? Puedes venir a mi cas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992520" y="624852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9" descr="tim"/>
          <p:cNvPicPr/>
          <p:nvPr/>
        </p:nvPicPr>
        <p:blipFill>
          <a:blip r:embed="rId1"/>
          <a:stretch/>
        </p:blipFill>
        <p:spPr>
          <a:xfrm>
            <a:off x="1981080" y="320040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1" descr="awha"/>
          <p:cNvPicPr/>
          <p:nvPr/>
        </p:nvPicPr>
        <p:blipFill>
          <a:blip r:embed="rId2"/>
          <a:stretch/>
        </p:blipFill>
        <p:spPr>
          <a:xfrm>
            <a:off x="2057400" y="5943600"/>
            <a:ext cx="609480" cy="587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2" descr="Geraldine and I"/>
          <p:cNvPicPr/>
          <p:nvPr/>
        </p:nvPicPr>
        <p:blipFill>
          <a:blip r:embed="rId3"/>
          <a:stretch/>
        </p:blipFill>
        <p:spPr>
          <a:xfrm>
            <a:off x="228600" y="5638680"/>
            <a:ext cx="457200" cy="60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3" descr="best friends"/>
          <p:cNvPicPr/>
          <p:nvPr/>
        </p:nvPicPr>
        <p:blipFill>
          <a:blip r:embed="rId4"/>
          <a:stretch/>
        </p:blipFill>
        <p:spPr>
          <a:xfrm>
            <a:off x="1981080" y="25146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4" descr="best friends"/>
          <p:cNvPicPr/>
          <p:nvPr/>
        </p:nvPicPr>
        <p:blipFill>
          <a:blip r:embed="rId5"/>
          <a:stretch/>
        </p:blipFill>
        <p:spPr>
          <a:xfrm>
            <a:off x="762120" y="487692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5" descr="Amina"/>
          <p:cNvPicPr/>
          <p:nvPr/>
        </p:nvPicPr>
        <p:blipFill>
          <a:blip r:embed="rId6"/>
          <a:stretch/>
        </p:blipFill>
        <p:spPr>
          <a:xfrm>
            <a:off x="2057400" y="38862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6" descr="Amina"/>
          <p:cNvPicPr/>
          <p:nvPr/>
        </p:nvPicPr>
        <p:blipFill>
          <a:blip r:embed="rId7"/>
          <a:stretch/>
        </p:blipFill>
        <p:spPr>
          <a:xfrm>
            <a:off x="1447920" y="4952880"/>
            <a:ext cx="533160" cy="400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7" descr="jenni"/>
          <p:cNvPicPr/>
          <p:nvPr/>
        </p:nvPicPr>
        <p:blipFill>
          <a:blip r:embed="rId8"/>
          <a:stretch/>
        </p:blipFill>
        <p:spPr>
          <a:xfrm>
            <a:off x="2057400" y="4495680"/>
            <a:ext cx="762120" cy="571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8" descr="jenni"/>
          <p:cNvPicPr/>
          <p:nvPr/>
        </p:nvPicPr>
        <p:blipFill>
          <a:blip r:embed="rId9"/>
          <a:stretch/>
        </p:blipFill>
        <p:spPr>
          <a:xfrm>
            <a:off x="152280" y="487692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9" descr="tumblr_lwu6gcLtHp1qfgnkqo1_500"/>
          <p:cNvPicPr/>
          <p:nvPr/>
        </p:nvPicPr>
        <p:blipFill>
          <a:blip r:embed="rId10"/>
          <a:stretch/>
        </p:blipFill>
        <p:spPr>
          <a:xfrm>
            <a:off x="2057400" y="5181480"/>
            <a:ext cx="787320" cy="525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0" descr="tumblr_lwu6gcLtHp1qfgnkqo1_500"/>
          <p:cNvPicPr/>
          <p:nvPr/>
        </p:nvPicPr>
        <p:blipFill>
          <a:blip r:embed="rId11"/>
          <a:stretch/>
        </p:blipFill>
        <p:spPr>
          <a:xfrm>
            <a:off x="914400" y="5715000"/>
            <a:ext cx="685800" cy="549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1" descr="757"/>
          <p:cNvPicPr/>
          <p:nvPr/>
        </p:nvPicPr>
        <p:blipFill>
          <a:blip r:embed="rId12"/>
          <a:stretch/>
        </p:blipFill>
        <p:spPr>
          <a:xfrm>
            <a:off x="533520" y="380880"/>
            <a:ext cx="7426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8:31:40Z</dcterms:modified>
  <cp:revision>113</cp:revision>
  <dc:subject/>
  <dc:title>Profile</dc:title>
</cp:coreProperties>
</file>